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152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760" y="291600"/>
            <a:ext cx="65833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" y="1711440"/>
            <a:ext cx="6583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5760" y="3927240"/>
            <a:ext cx="6583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760" y="291600"/>
            <a:ext cx="65833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5760" y="1711440"/>
            <a:ext cx="32126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39320" y="1711440"/>
            <a:ext cx="32126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65760" y="3927240"/>
            <a:ext cx="32126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739320" y="3927240"/>
            <a:ext cx="32126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5760" y="291600"/>
            <a:ext cx="65833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5760" y="1711440"/>
            <a:ext cx="211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591640" y="1711440"/>
            <a:ext cx="211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17880" y="1711440"/>
            <a:ext cx="211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65760" y="3927240"/>
            <a:ext cx="211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591640" y="3927240"/>
            <a:ext cx="211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817880" y="3927240"/>
            <a:ext cx="2119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5760" y="291600"/>
            <a:ext cx="65833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65760" y="1711440"/>
            <a:ext cx="6583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5760" y="291600"/>
            <a:ext cx="65833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65760" y="1711440"/>
            <a:ext cx="6583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760" y="291600"/>
            <a:ext cx="65833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65760" y="1711440"/>
            <a:ext cx="321264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739320" y="1711440"/>
            <a:ext cx="321264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760" y="291600"/>
            <a:ext cx="65833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65760" y="291600"/>
            <a:ext cx="658332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5760" y="291600"/>
            <a:ext cx="65833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5760" y="1711440"/>
            <a:ext cx="32126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739320" y="1711440"/>
            <a:ext cx="321264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65760" y="3927240"/>
            <a:ext cx="32126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760" y="291600"/>
            <a:ext cx="65833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" y="1711440"/>
            <a:ext cx="321264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39320" y="1711440"/>
            <a:ext cx="32126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39320" y="3927240"/>
            <a:ext cx="32126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760" y="291600"/>
            <a:ext cx="65833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" y="1711440"/>
            <a:ext cx="32126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739320" y="1711440"/>
            <a:ext cx="32126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5760" y="3927240"/>
            <a:ext cx="658332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760" y="291600"/>
            <a:ext cx="658332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5760" y="1711440"/>
            <a:ext cx="65833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742680" indent="-5238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48320" indent="-52416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43160" indent="-5238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38360" indent="-52416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43640" indent="-5238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43640" indent="-5238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43640" indent="-5238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641680" y="3543480"/>
            <a:ext cx="384120" cy="51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"/>
          <p:cNvSpPr/>
          <p:nvPr/>
        </p:nvSpPr>
        <p:spPr>
          <a:xfrm>
            <a:off x="2158920" y="3543480"/>
            <a:ext cx="424080" cy="506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"/>
          <p:cNvSpPr/>
          <p:nvPr/>
        </p:nvSpPr>
        <p:spPr>
          <a:xfrm>
            <a:off x="1828800" y="3301920"/>
            <a:ext cx="345960" cy="74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"/>
          <p:cNvSpPr/>
          <p:nvPr/>
        </p:nvSpPr>
        <p:spPr>
          <a:xfrm>
            <a:off x="4546440" y="3543480"/>
            <a:ext cx="449280" cy="512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"/>
          <p:cNvSpPr/>
          <p:nvPr/>
        </p:nvSpPr>
        <p:spPr>
          <a:xfrm>
            <a:off x="3556080" y="3314880"/>
            <a:ext cx="449280" cy="73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"/>
          <p:cNvSpPr/>
          <p:nvPr/>
        </p:nvSpPr>
        <p:spPr>
          <a:xfrm>
            <a:off x="5041800" y="3314880"/>
            <a:ext cx="462240" cy="7315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"/>
          <p:cNvSpPr/>
          <p:nvPr/>
        </p:nvSpPr>
        <p:spPr>
          <a:xfrm>
            <a:off x="4051440" y="3543480"/>
            <a:ext cx="449280" cy="512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"/>
          <p:cNvSpPr/>
          <p:nvPr/>
        </p:nvSpPr>
        <p:spPr>
          <a:xfrm>
            <a:off x="3071880" y="3543480"/>
            <a:ext cx="438120" cy="514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"/>
          <p:cNvSpPr/>
          <p:nvPr/>
        </p:nvSpPr>
        <p:spPr>
          <a:xfrm>
            <a:off x="5537160" y="3962520"/>
            <a:ext cx="93600" cy="9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