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32654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2920" y="-85320"/>
            <a:ext cx="9052200" cy="97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2920" y="763920"/>
            <a:ext cx="9052200" cy="9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2920" y="1752840"/>
            <a:ext cx="9052200" cy="9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-85320"/>
            <a:ext cx="9052200" cy="97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763920"/>
            <a:ext cx="4417200" cy="9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1520" y="763920"/>
            <a:ext cx="4417200" cy="9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2920" y="1752840"/>
            <a:ext cx="4417200" cy="9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1520" y="1752840"/>
            <a:ext cx="4417200" cy="9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2920" y="-85320"/>
            <a:ext cx="9052200" cy="97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2920" y="763920"/>
            <a:ext cx="2914560" cy="9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63640" y="763920"/>
            <a:ext cx="2914560" cy="9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24360" y="763920"/>
            <a:ext cx="2914560" cy="9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2920" y="1752840"/>
            <a:ext cx="2914560" cy="9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63640" y="1752840"/>
            <a:ext cx="2914560" cy="9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24360" y="1752840"/>
            <a:ext cx="2914560" cy="9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2920" y="-85320"/>
            <a:ext cx="9052200" cy="97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2920" y="763920"/>
            <a:ext cx="905220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-85320"/>
            <a:ext cx="9052200" cy="97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2920" y="763920"/>
            <a:ext cx="905220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-85320"/>
            <a:ext cx="9052200" cy="97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2920" y="763920"/>
            <a:ext cx="441720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1520" y="763920"/>
            <a:ext cx="441720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-85320"/>
            <a:ext cx="9052200" cy="97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02920" y="129960"/>
            <a:ext cx="9052200" cy="25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-85320"/>
            <a:ext cx="9052200" cy="97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763920"/>
            <a:ext cx="4417200" cy="9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1520" y="763920"/>
            <a:ext cx="441720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2920" y="1752840"/>
            <a:ext cx="4417200" cy="9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-85320"/>
            <a:ext cx="9052200" cy="97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920" y="763920"/>
            <a:ext cx="441720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1520" y="763920"/>
            <a:ext cx="4417200" cy="9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1520" y="1752840"/>
            <a:ext cx="4417200" cy="9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2920" y="-85320"/>
            <a:ext cx="9052200" cy="97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2920" y="763920"/>
            <a:ext cx="4417200" cy="9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1520" y="763920"/>
            <a:ext cx="4417200" cy="9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2920" y="1752840"/>
            <a:ext cx="9052200" cy="9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129960"/>
            <a:ext cx="905220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763920"/>
            <a:ext cx="905220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marL="345240" indent="-24372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487440" indent="-24372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624600" indent="-24372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761760" indent="-24372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+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903960" indent="-24372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+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903960" indent="-24372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903960" indent="-24372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257480" y="582480"/>
            <a:ext cx="591840" cy="1624320"/>
          </a:xfrm>
          <a:prstGeom prst="pie">
            <a:avLst/>
          </a:prstGeom>
          <a:solidFill>
            <a:srgbClr val="4040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"/>
          <p:cNvSpPr/>
          <p:nvPr/>
        </p:nvSpPr>
        <p:spPr>
          <a:xfrm>
            <a:off x="2031840" y="582480"/>
            <a:ext cx="6772320" cy="2140200"/>
          </a:xfrm>
          <a:prstGeom prst="pie">
            <a:avLst/>
          </a:prstGeom>
          <a:solidFill>
            <a:srgbClr val="4040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