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541713" cy="35671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7120" y="-1023120"/>
            <a:ext cx="3187800" cy="292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77120" y="834480"/>
            <a:ext cx="3187800" cy="9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77120" y="1914840"/>
            <a:ext cx="3187800" cy="9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7120" y="-1023120"/>
            <a:ext cx="3187800" cy="292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7120" y="834480"/>
            <a:ext cx="1555560" cy="9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10800" y="834480"/>
            <a:ext cx="1555560" cy="9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77120" y="1914840"/>
            <a:ext cx="1555560" cy="9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1810800" y="1914840"/>
            <a:ext cx="1555560" cy="9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7120" y="-1023120"/>
            <a:ext cx="3187800" cy="292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77120" y="834480"/>
            <a:ext cx="1026360" cy="9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0000"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55320" y="834480"/>
            <a:ext cx="1026360" cy="9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0000"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333160" y="834480"/>
            <a:ext cx="1026360" cy="9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0000"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77120" y="1914840"/>
            <a:ext cx="1026360" cy="9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0000"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1255320" y="1914840"/>
            <a:ext cx="1026360" cy="9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0000"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2333160" y="1914840"/>
            <a:ext cx="1026360" cy="9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0000"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77120" y="-1023120"/>
            <a:ext cx="3187800" cy="292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77120" y="834480"/>
            <a:ext cx="3187800" cy="206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77120" y="-1023120"/>
            <a:ext cx="3187800" cy="292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77120" y="834480"/>
            <a:ext cx="3187800" cy="206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7120" y="-1023120"/>
            <a:ext cx="3187800" cy="292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77120" y="834480"/>
            <a:ext cx="1555560" cy="206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1810800" y="834480"/>
            <a:ext cx="1555560" cy="206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7120" y="-1023120"/>
            <a:ext cx="3187800" cy="292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77120" y="142200"/>
            <a:ext cx="3187800" cy="275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7120" y="-1023120"/>
            <a:ext cx="3187800" cy="292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77120" y="834480"/>
            <a:ext cx="1555560" cy="9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1810800" y="834480"/>
            <a:ext cx="1555560" cy="206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77120" y="1914840"/>
            <a:ext cx="1555560" cy="9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7120" y="-1023120"/>
            <a:ext cx="3187800" cy="292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77120" y="834480"/>
            <a:ext cx="1555560" cy="206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1810800" y="834480"/>
            <a:ext cx="1555560" cy="9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810800" y="1914840"/>
            <a:ext cx="1555560" cy="9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7120" y="-1023120"/>
            <a:ext cx="3187800" cy="292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77120" y="834480"/>
            <a:ext cx="1555560" cy="9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1810800" y="834480"/>
            <a:ext cx="1555560" cy="9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77120" y="1914840"/>
            <a:ext cx="3187800" cy="9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7120" y="142200"/>
            <a:ext cx="3187800" cy="59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7120" y="834480"/>
            <a:ext cx="3187800" cy="206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2000"/>
          </a:bodyPr>
          <a:p>
            <a:pPr marL="362520" indent="-255960">
              <a:spcBef>
                <a:spcPts val="2001"/>
              </a:spcBef>
              <a:buClr>
                <a:srgbClr val="000000"/>
              </a:buClr>
              <a:buSzPct val="171000"/>
              <a:buFont typeface="Gill Sans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511920" indent="-255960">
              <a:spcBef>
                <a:spcPts val="2001"/>
              </a:spcBef>
              <a:buClr>
                <a:srgbClr val="000000"/>
              </a:buClr>
              <a:buSzPct val="171000"/>
              <a:buFont typeface="Gill Sans"/>
              <a:buChar char="+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655920" indent="-255960">
              <a:spcBef>
                <a:spcPts val="2001"/>
              </a:spcBef>
              <a:buClr>
                <a:srgbClr val="000000"/>
              </a:buClr>
              <a:buSzPct val="171000"/>
              <a:buFont typeface="Gill Sans"/>
              <a:buChar char="+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799920" indent="-255960">
              <a:spcBef>
                <a:spcPts val="2001"/>
              </a:spcBef>
              <a:buClr>
                <a:srgbClr val="000000"/>
              </a:buClr>
              <a:buSzPct val="171000"/>
              <a:buFont typeface="Gill Sans"/>
              <a:buChar char="+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949320" indent="-255960">
              <a:spcBef>
                <a:spcPts val="2001"/>
              </a:spcBef>
              <a:buClr>
                <a:srgbClr val="000000"/>
              </a:buClr>
              <a:buSzPct val="171000"/>
              <a:buFont typeface="Gill Sans"/>
              <a:buChar char="+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949320" indent="-255960">
              <a:spcBef>
                <a:spcPts val="799"/>
              </a:spcBef>
              <a:buClr>
                <a:srgbClr val="000000"/>
              </a:buClr>
              <a:buSzPct val="171000"/>
              <a:buFont typeface="Gill Sans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949320" indent="-255960">
              <a:spcBef>
                <a:spcPts val="799"/>
              </a:spcBef>
              <a:buClr>
                <a:srgbClr val="000000"/>
              </a:buClr>
              <a:buSzPct val="171000"/>
              <a:buFont typeface="Gill Sans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25560" y="50760"/>
            <a:ext cx="3484440" cy="3484440"/>
          </a:xfrm>
          <a:prstGeom prst="pie">
            <a:avLst/>
          </a:prstGeom>
          <a:solidFill>
            <a:srgbClr val="ca20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