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6583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5760" y="3927240"/>
            <a:ext cx="6583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576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3932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91640" y="17114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17880" y="17114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5760" y="39272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591640" y="39272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17880" y="39272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5760" y="1711440"/>
            <a:ext cx="6583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6583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760" y="291600"/>
            <a:ext cx="6583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576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3932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5760" y="3927240"/>
            <a:ext cx="6583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760" y="1711440"/>
            <a:ext cx="6583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742680" indent="-5238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48320" indent="-5241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43160" indent="-5238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38360" indent="-5241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3640" indent="-5238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3640" indent="-5238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3640" indent="-5238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724280" y="3033720"/>
            <a:ext cx="1239840" cy="1251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"/>
          <p:cNvSpPr/>
          <p:nvPr/>
        </p:nvSpPr>
        <p:spPr>
          <a:xfrm>
            <a:off x="4889520" y="3238560"/>
            <a:ext cx="216000" cy="858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"/>
          <p:cNvSpPr/>
          <p:nvPr/>
        </p:nvSpPr>
        <p:spPr>
          <a:xfrm>
            <a:off x="5194440" y="3505320"/>
            <a:ext cx="587160" cy="591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