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084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40" y="891000"/>
            <a:ext cx="3427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90440" y="2044800"/>
            <a:ext cx="3427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440" y="8910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46880" y="8910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0440" y="20448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946880" y="20448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440" y="891000"/>
            <a:ext cx="110340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49280" y="891000"/>
            <a:ext cx="110340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8480" y="891000"/>
            <a:ext cx="110340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90440" y="2044800"/>
            <a:ext cx="110340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349280" y="2044800"/>
            <a:ext cx="110340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2508480" y="2044800"/>
            <a:ext cx="110340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90440" y="891000"/>
            <a:ext cx="3427560" cy="22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90440" y="891000"/>
            <a:ext cx="3427560" cy="22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0440" y="891000"/>
            <a:ext cx="1672560" cy="22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946880" y="891000"/>
            <a:ext cx="1672560" cy="22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90440" y="151920"/>
            <a:ext cx="3427560" cy="29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0440" y="8910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946880" y="891000"/>
            <a:ext cx="1672560" cy="22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90440" y="20448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40" y="891000"/>
            <a:ext cx="1672560" cy="22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946880" y="8910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46880" y="20448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40" y="-505800"/>
            <a:ext cx="3427560" cy="19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40" y="8910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946880" y="891000"/>
            <a:ext cx="1672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90440" y="2044800"/>
            <a:ext cx="3427560" cy="105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40" y="151920"/>
            <a:ext cx="3427560" cy="6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40" y="891000"/>
            <a:ext cx="3427560" cy="22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 marL="388440" indent="-2739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548640" indent="-2743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702720" indent="-2739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857160" indent="-27432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017000" indent="-2739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017000" indent="-27396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017000" indent="-27396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35040" y="876240"/>
            <a:ext cx="2539800" cy="2063880"/>
          </a:xfrm>
          <a:prstGeom prst="pie">
            <a:avLst/>
          </a:prstGeom>
          <a:solidFill>
            <a:srgbClr val="2ba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